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E0E-E936-4182-B602-CF09CBB1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520-3E05-4FAB-B8AC-B142B4E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B05-BC8C-4C72-8884-76F0798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E77-C401-45E9-97BC-46F8C9A8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E34-4DDE-4B94-900D-F3AA6CD4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32E-92CD-446C-B314-6C47599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D7A-1279-405D-A979-7DC8FE8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B88-FDCB-4357-BE2B-0457DA59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E82-665E-4A8C-AD9F-5C392EFA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CA8-769E-4175-BAD3-7135C4B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C7F-9773-4F56-B5A5-CE05483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4E9-8B8E-40CF-ABAF-8432206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:\Documents and Settings\walterl\My Documents\My Pictures\Microsoft Clip Organizer\j0438794.jpg"/>
          <p:cNvPicPr/>
          <p:nvPr/>
        </p:nvPicPr>
        <p:blipFill>
          <a:blip r:embed="rId2"/>
          <a:srcRect l="10370" t="0" r="0" b="6251"/>
          <a:stretch/>
        </p:blipFill>
        <p:spPr>
          <a:xfrm>
            <a:off x="0" y="4071960"/>
            <a:ext cx="1606680" cy="2786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walterl\My Documents\My Pictures\Microsoft Clip Organizer\j0438794.jpg"/>
          <p:cNvPicPr/>
          <p:nvPr/>
        </p:nvPicPr>
        <p:blipFill>
          <a:blip r:embed="rId3"/>
          <a:srcRect l="10359" t="0" r="0" b="0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Candara"/>
              </a:rPr>
              <a:t>Click to edit the title text format</a:t>
            </a: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Click to edit the outline text format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con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Thir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our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if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ix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ven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6A26-4AC3-405F-A91F-FAD8A9558F75}" type="slidenum">
              <a:rPr b="0" lang="en-US" sz="1200" spc="-1" strike="noStrike">
                <a:solidFill>
                  <a:srgbClr val="4f6228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77933c"/>
                </a:solidFill>
                <a:latin typeface="Candara"/>
              </a:rPr>
              <a:t>                </a:t>
            </a:r>
            <a:r>
              <a:rPr b="1" i="1" lang="en-US" sz="2000" spc="-1" strike="noStrike">
                <a:solidFill>
                  <a:srgbClr val="4e8c77"/>
                </a:solidFill>
                <a:latin typeface="Candara"/>
              </a:rPr>
              <a:t>Beneficiile invatarii prin proiecte</a:t>
            </a:r>
            <a:r>
              <a:rPr b="1" i="1" lang="en-US" sz="4000" spc="-1" strike="noStrike">
                <a:solidFill>
                  <a:srgbClr val="77933c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696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03c5"/>
                </a:solidFill>
                <a:latin typeface="Candar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4e8c77"/>
                </a:solidFill>
                <a:latin typeface="Candara"/>
              </a:rPr>
              <a:t>ProiectuL  </a:t>
            </a:r>
            <a:r>
              <a:rPr b="1" i="1" lang="en-US" sz="4000" spc="-1" strike="noStrike">
                <a:solidFill>
                  <a:srgbClr val="4e8c77"/>
                </a:solidFill>
                <a:latin typeface="Candara"/>
              </a:rPr>
              <a:t>FOOD</a:t>
            </a:r>
            <a:r>
              <a:rPr b="1" lang="en-US" sz="4000" spc="-1" strike="noStrike">
                <a:solidFill>
                  <a:srgbClr val="4e8c77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andara"/>
              </a:rPr>
              <a:t>Grup Scolar Sanitar “Vasile Voiculescu” Oradea</a:t>
            </a: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Ce beneficii aduce elevilor aceasta metoda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de invatare si evaluare ? 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lucreze in echipa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colaboresze  si sa-si imparta sarcinil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devin constienti de propriile calitati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Abordand continuturile intr-un mod diferit, elevii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se implica si devin  responsabili de procesul lor de invatar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Formeaza deprinderi si abilitati necesare in viata de adult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</a:t>
            </a:r>
            <a:r>
              <a:rPr b="1" lang="en-US" sz="1800" spc="-1" strike="noStrike">
                <a:solidFill>
                  <a:srgbClr val="4e8c77"/>
                </a:solidFill>
                <a:latin typeface="Candara"/>
              </a:rPr>
              <a:t>Fiecare elev vine cu niste ingrediente (cunostintele, abilitatile dobandite, calitatile personale, dorinte de a realiza un proiect reusit) pe care, impreuna cu ceilalti, le adauga la “preparat”, astfel incat ca la sfarsit sa putem spune ca fiecare a (pre)gatit un fel de mancare inedit, si a invatat foarte multe din aceasta experienta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4776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0:14:57Z</dcterms:created>
  <dc:creator> craciun</dc:creator>
  <dc:description/>
  <cp:keywords/>
  <dc:language>en-US</dc:language>
  <cp:lastModifiedBy> craciun</cp:lastModifiedBy>
  <dcterms:modified xsi:type="dcterms:W3CDTF">2011-01-15T02:35:35Z</dcterms:modified>
  <cp:revision>4</cp:revision>
  <dc:subject/>
  <dc:title>Click to add title</dc:title>
</cp:coreProperties>
</file>